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F83-530C-4FA3-8946-9F9B1884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A74-DCC6-4712-85E7-B4D04D77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DDF-6B1B-42F1-8623-3DD39173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B99-544F-4EB1-9B01-4D9CC8B5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A19-D669-482F-BD8C-80CC8017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B50-4CAF-4CCB-BB9E-8F633EAE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6B4-B0D6-4228-9F69-A726AA0F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EFD-F8D8-4126-AF3C-C3865ECB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A5E-1EC1-45A8-A1EC-1686BD55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CAB-2591-48A7-8797-F7A7F9C6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050-131F-4125-ADA2-699BC113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B1C-253B-4785-982C-9AEDF0B3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A1DC-DAD8-4148-B482-753DF9CF3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14400" y="14479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ODES OF PERSUAS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838080" y="41148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OS, PATHOS, &amp; LOG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066680" y="54864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text from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hetor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by Aristo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memory.loc.gov/service/pnp/ppmsca/02900/02919v.jpg"/>
          <p:cNvPicPr/>
          <p:nvPr/>
        </p:nvPicPr>
        <p:blipFill>
          <a:blip r:embed="rId1"/>
          <a:stretch/>
        </p:blipFill>
        <p:spPr>
          <a:xfrm>
            <a:off x="304920" y="228600"/>
            <a:ext cx="5325840" cy="6256440"/>
          </a:xfrm>
          <a:prstGeom prst="rect">
            <a:avLst/>
          </a:prstGeom>
          <a:ln w="0">
            <a:noFill/>
          </a:ln>
        </p:spPr>
      </p:pic>
      <p:pic>
        <p:nvPicPr>
          <p:cNvPr id="64" name="The_First_Film_Commericials__Sports_and_Entertainment_on_Film.asf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3184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Image, Source: digital file from original"/>
          <p:cNvPicPr/>
          <p:nvPr/>
        </p:nvPicPr>
        <p:blipFill>
          <a:blip r:embed="rId1"/>
          <a:stretch/>
        </p:blipFill>
        <p:spPr>
          <a:xfrm>
            <a:off x="609480" y="228600"/>
            <a:ext cx="7813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18743" t="27087" r="50603" b="15625"/>
          <a:stretch/>
        </p:blipFill>
        <p:spPr>
          <a:xfrm>
            <a:off x="152280" y="380880"/>
            <a:ext cx="4496040" cy="630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9375" t="22918" r="57816" b="22918"/>
          <a:stretch/>
        </p:blipFill>
        <p:spPr>
          <a:xfrm>
            <a:off x="4800600" y="990720"/>
            <a:ext cx="4124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066680" y="14479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LOG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86000" y="282888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uasion is effected through the speech itself when we have proved a truth or an apparent truth by means of the persuasive arguments suitable to the case in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19843" t="29388" r="51590" b="14012"/>
          <a:stretch/>
        </p:blipFill>
        <p:spPr>
          <a:xfrm>
            <a:off x="4876920" y="457200"/>
            <a:ext cx="3809880" cy="5504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72dpi JPEG image of this item"/>
          <p:cNvPicPr/>
          <p:nvPr/>
        </p:nvPicPr>
        <p:blipFill>
          <a:blip r:embed="rId2"/>
          <a:stretch/>
        </p:blipFill>
        <p:spPr>
          <a:xfrm>
            <a:off x="533520" y="609480"/>
            <a:ext cx="392436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50dpi JPEG image of this item"/>
          <p:cNvPicPr/>
          <p:nvPr/>
        </p:nvPicPr>
        <p:blipFill>
          <a:blip r:embed="rId1"/>
          <a:srcRect l="0" t="2530" r="0" b="2530"/>
          <a:stretch/>
        </p:blipFill>
        <p:spPr>
          <a:xfrm>
            <a:off x="157320" y="457200"/>
            <a:ext cx="4109760" cy="5970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rcRect l="17968" t="21875" r="16406" b="9375"/>
          <a:stretch/>
        </p:blipFill>
        <p:spPr>
          <a:xfrm>
            <a:off x="4294080" y="179280"/>
            <a:ext cx="4621320" cy="3630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>
            <a:alphaModFix amt="70000"/>
          </a:blip>
          <a:srcRect l="52718" t="48780" r="18141" b="36280"/>
          <a:stretch/>
        </p:blipFill>
        <p:spPr>
          <a:xfrm>
            <a:off x="3794040" y="4114800"/>
            <a:ext cx="5349960" cy="205740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5" name="Curved Right Arrow 8"/>
          <p:cNvSpPr/>
          <p:nvPr/>
        </p:nvSpPr>
        <p:spPr>
          <a:xfrm rot="1325400">
            <a:off x="6014520" y="1335240"/>
            <a:ext cx="785880" cy="2531880"/>
          </a:xfrm>
          <a:custGeom>
            <a:avLst/>
            <a:gdLst>
              <a:gd name="textAreaLeft" fmla="*/ 105120 w 785880"/>
              <a:gd name="textAreaRight" fmla="*/ 680760 w 785880"/>
              <a:gd name="textAreaTop" fmla="*/ 552240 h 2531880"/>
              <a:gd name="textAreaBottom" fmla="*/ 1852920 h 253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22" stAng="-5400000" swAng="-5400000"/>
                <a:lnTo>
                  <a:pt x="0" y="11097"/>
                </a:lnTo>
                <a:arcTo wR="21600" hR="9422" stAng="10800000" swAng="-3418786"/>
                <a:lnTo>
                  <a:pt x="15709" y="21243"/>
                </a:lnTo>
                <a:lnTo>
                  <a:pt x="21600" y="19681"/>
                </a:lnTo>
                <a:lnTo>
                  <a:pt x="15709" y="17404"/>
                </a:lnTo>
                <a:lnTo>
                  <a:pt x="15709" y="18486"/>
                </a:lnTo>
                <a:arcTo wR="21600" hR="9422" stAng="7381214" swAng="3285031"/>
                <a:lnTo>
                  <a:pt x="86" y="10259"/>
                </a:lnTo>
                <a:arcTo wR="21600" hR="9422" stAng="-10666245" swAng="5266245"/>
                <a:close/>
              </a:path>
              <a:path fill="darkenLess" w="21600" h="21600">
                <a:moveTo>
                  <a:pt x="21600" y="0"/>
                </a:moveTo>
                <a:arcTo wR="21600" hR="9422" stAng="-5400000" swAng="-5400000"/>
                <a:lnTo>
                  <a:pt x="0" y="9422"/>
                </a:lnTo>
                <a:arcTo wR="21600" hR="9422" stAng="10800000" swAng="-133755"/>
                <a:lnTo>
                  <a:pt x="86" y="10259"/>
                </a:lnTo>
                <a:arcTo wR="21600" hR="9422" stAng="-10666245" swAng="526624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150dpi JPEG image of this item"/>
          <p:cNvPicPr/>
          <p:nvPr/>
        </p:nvPicPr>
        <p:blipFill>
          <a:blip r:embed="rId4"/>
          <a:srcRect l="55363" t="60881" r="7145" b="22788"/>
          <a:stretch/>
        </p:blipFill>
        <p:spPr>
          <a:xfrm>
            <a:off x="0" y="4876920"/>
            <a:ext cx="2971800" cy="198108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7" name="Curved Left Arrow 10"/>
          <p:cNvSpPr/>
          <p:nvPr/>
        </p:nvSpPr>
        <p:spPr>
          <a:xfrm rot="2470800">
            <a:off x="3007800" y="4464000"/>
            <a:ext cx="614520" cy="1270080"/>
          </a:xfrm>
          <a:custGeom>
            <a:avLst/>
            <a:gdLst>
              <a:gd name="textAreaLeft" fmla="*/ 82080 w 614520"/>
              <a:gd name="textAreaRight" fmla="*/ 532440 w 614520"/>
              <a:gd name="textAreaTop" fmla="*/ 259920 h 1270080"/>
              <a:gd name="textAreaBottom" fmla="*/ 933480 h 12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42" stAng="-5400000" swAng="5400000"/>
                <a:lnTo>
                  <a:pt x="21600" y="11452"/>
                </a:lnTo>
                <a:arcTo wR="21600" hR="8842" stAng="0" swAng="3465498"/>
                <a:lnTo>
                  <a:pt x="5400" y="21319"/>
                </a:lnTo>
                <a:lnTo>
                  <a:pt x="0" y="18989"/>
                </a:lnTo>
                <a:lnTo>
                  <a:pt x="5400" y="16097"/>
                </a:lnTo>
                <a:lnTo>
                  <a:pt x="5400" y="17403"/>
                </a:lnTo>
                <a:arcTo wR="21600" hR="8842" stAng="3465498" swAng="-3255762"/>
                <a:lnTo>
                  <a:pt x="21363" y="10147"/>
                </a:lnTo>
                <a:arcTo wR="21600" hR="8842" stAng="-209736" swAng="-5190264"/>
                <a:close/>
              </a:path>
              <a:path fill="darkenLess" w="21600" h="21600">
                <a:moveTo>
                  <a:pt x="0" y="0"/>
                </a:moveTo>
                <a:arcTo wR="21600" hR="8842" stAng="-5400000" swAng="5400000"/>
                <a:lnTo>
                  <a:pt x="21600" y="11452"/>
                </a:lnTo>
                <a:arcTo wR="21600" hR="8842" stAng="0" swAng="-209736"/>
                <a:lnTo>
                  <a:pt x="21363" y="10147"/>
                </a:lnTo>
                <a:arcTo wR="21600" hR="8842" stAng="-209736" swAng="-519026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914400" y="1295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f the modes of persuasion furnished by the spoken word there are three ki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4495680" y="609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irst kind depends on the personal character of the spea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457200" y="4114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econd on putting the audience into a certain frame of m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Isosceles Triangle 4"/>
          <p:cNvGrpSpPr/>
          <p:nvPr/>
        </p:nvGrpSpPr>
        <p:grpSpPr>
          <a:xfrm>
            <a:off x="1352520" y="669960"/>
            <a:ext cx="5524560" cy="3541680"/>
            <a:chOff x="1352520" y="669960"/>
            <a:chExt cx="5524560" cy="3541680"/>
          </a:xfrm>
        </p:grpSpPr>
        <p:pic>
          <p:nvPicPr>
            <p:cNvPr id="48" name="Isosceles Triangle 4" descr=""/>
            <p:cNvPicPr/>
            <p:nvPr/>
          </p:nvPicPr>
          <p:blipFill>
            <a:blip r:embed="rId1"/>
            <a:stretch/>
          </p:blipFill>
          <p:spPr>
            <a:xfrm>
              <a:off x="1352520" y="669960"/>
              <a:ext cx="552456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3200" y="2438280"/>
              <a:ext cx="27432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Rectangle 3"/>
          <p:cNvSpPr/>
          <p:nvPr/>
        </p:nvSpPr>
        <p:spPr>
          <a:xfrm>
            <a:off x="4419720" y="3276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hird on the proof, or apparent proof, provided by the words of the speech itsel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1066680" y="14479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ETH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62520" y="137160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uasion is achieved by the speaker's personal character when the speech is so spoken as to make us think hi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ed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295280" y="3124080"/>
            <a:ext cx="510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believe good men more fully and more readily than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048120" y="4267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kind of persuasion, like the others, should be achieved by what the speaker says, not by what people think of his character before he begins to sp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10936" t="39587" r="21094" b="31250"/>
          <a:stretch/>
        </p:blipFill>
        <p:spPr>
          <a:xfrm>
            <a:off x="457200" y="1447920"/>
            <a:ext cx="8286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www.loc.gov/rr/print/swann/herblock/images/s03284u.jpg"/>
          <p:cNvPicPr/>
          <p:nvPr/>
        </p:nvPicPr>
        <p:blipFill>
          <a:blip r:embed="rId1"/>
          <a:stretch/>
        </p:blipFill>
        <p:spPr>
          <a:xfrm>
            <a:off x="762120" y="609480"/>
            <a:ext cx="3657600" cy="532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www.loc.gov/rr/print/swann/herblock/images/s03541u.jpg"/>
          <p:cNvPicPr/>
          <p:nvPr/>
        </p:nvPicPr>
        <p:blipFill>
          <a:blip r:embed="rId2"/>
          <a:stretch/>
        </p:blipFill>
        <p:spPr>
          <a:xfrm>
            <a:off x="4800600" y="533520"/>
            <a:ext cx="37339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loc.gov/exhibits/treasures/images/at0082_6bs.jpg"/>
          <p:cNvPicPr/>
          <p:nvPr/>
        </p:nvPicPr>
        <p:blipFill>
          <a:blip r:embed="rId1"/>
          <a:stretch/>
        </p:blipFill>
        <p:spPr>
          <a:xfrm>
            <a:off x="838080" y="228600"/>
            <a:ext cx="473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066680" y="14479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ATH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4114800" y="838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uasion may come through the hearers, when the speech stirs their emo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809880" y="2209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r judgments when we are pleased and friendly are not the same as when we are pained and hos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mage, Source: color film copy slide"/>
          <p:cNvPicPr/>
          <p:nvPr/>
        </p:nvPicPr>
        <p:blipFill>
          <a:blip r:embed="rId1"/>
          <a:stretch/>
        </p:blipFill>
        <p:spPr>
          <a:xfrm>
            <a:off x="533520" y="228600"/>
            <a:ext cx="472428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5:09:57Z</dcterms:created>
  <dc:creator>SDPBC</dc:creator>
  <dc:description/>
  <dc:language>en-US</dc:language>
  <cp:lastModifiedBy>SDPBC</cp:lastModifiedBy>
  <dcterms:modified xsi:type="dcterms:W3CDTF">2009-09-11T21:26:05Z</dcterms:modified>
  <cp:revision>37</cp:revision>
  <dc:subject/>
  <dc:title>Slide 1</dc:title>
</cp:coreProperties>
</file>